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812CBB0-7449-41CE-9DEB-5CBBB62551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T.Tammet     IT sissejuhatus loeng 1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C45C3F1F-4591-4A99-8BAE-74FB9B91EF2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7EB3C-F970-4253-967F-5D0F6A3D8CA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incredibly comple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blueprints: gen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s are very small when compared to anima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contain copies of genes in huge amou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is it possible?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no recursion involve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ccording to some measur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he “simplicity” measure may be arbitrarily complex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recur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itera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bar which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2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8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9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9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0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0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1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1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2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2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0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- infinite loop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ar is a ca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(int x)  {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"ancestor" is either a parent or an ancestor of a pare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 (int x) {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x &lt;= 0) return 1;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return x * fact(x-1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4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4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5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5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6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6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7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7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8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8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